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B8A-E41E-4DDB-B5F3-829B33F8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815-8AE7-4C31-92B0-B4E80285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461-10F2-45BF-8F1B-55FC3FA2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56B-28CA-435A-A9B1-124C17B1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5D9F-E76A-4BD3-8153-B8534A4C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72F-7EA6-446C-8A54-360DC3EA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F037-EF48-4CF9-A5D5-556B5CD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47C0-DB16-4555-AA85-B84CC7A9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6B9B-9851-4792-BD30-A91EFCA5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16BD-6FAD-4ADA-955A-3FF511EF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0C2F-E11D-4531-B1B2-D2CBF12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12C-E43A-496C-BA8A-8E26EC6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167-2F4A-40B5-8BB8-03DF7A7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6355-2D40-47B3-AE01-C407C57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4FF-0798-4705-85A7-627A7598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A30E-C870-47A5-9652-18EC58B2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C99-68D6-494C-93BF-FC7FD7DF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AA2-D639-4E30-9D6F-13DD1CCD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E8A-F6A3-4C0F-A336-525E854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50B-8B10-4B88-BD2D-6A090DF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285-8A7A-4401-B160-94CE892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992-266E-434C-BAA9-B98FC99B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689-32EF-4B01-9F8D-6656691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D59-3904-4959-86EC-ADDBBEA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1D23-B7ED-4AD3-9CF1-06D2E74EFFA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236-B6E6-4231-A006-CCF183DCC9F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ccffff"/>
                </a:solidFill>
                <a:latin typeface="Impact"/>
              </a:rPr>
              <a:t>Market Analysis</a:t>
            </a:r>
            <a:endParaRPr b="0" lang="en-US" sz="7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Impact"/>
              </a:rPr>
              <a:t>Questions on Buyer Identifica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Impact"/>
              </a:rPr>
              <a:t>The Buying Cent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ho is involved in the buying process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Reference group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Colleag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Family members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Impact"/>
              </a:rPr>
              <a:t>Questions on Buyer Identifica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Impact"/>
              </a:rPr>
              <a:t>Customer Turnover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Is there a high degree of customer turnover because of mobility or because purchase is tied to age or other demographic factors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If so, why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Impact"/>
              </a:rPr>
              <a:t>Questions on Willingness and Ability to Buy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Willingness to Bu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ould new or improved related products and services increase utilization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hat usage problems exist or are perceived to exist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Is the product or service compatible with the values and experiences of the buyer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hat types of perceived risks are significant in the purchase of the product form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Questions on Willingness and Ability to Bu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Ability to Bu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To what extent do purchase prices and other acquisition and maintenance costs inhibit purchase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Are product size or space problems creating problems for customers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Is the product available at a time and place that meets customer needs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Impact"/>
              </a:rPr>
              <a:t>Market Structure for Holiday Trave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0"/>
          <p:cNvGraphicFramePr/>
          <p:nvPr/>
        </p:nvGraphicFramePr>
        <p:xfrm>
          <a:off x="1219320" y="243828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Questions on Selective Deman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Impact"/>
              </a:rPr>
              <a:t>Decision Process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99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How extensive is the search for information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99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o buyers use personal or impersonal sources of information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99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o buyers seek information about brand or supplier characteristics?</a:t>
            </a: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GB" sz="3200" spc="-1" strike="noStrike">
                <a:solidFill>
                  <a:srgbClr val="1c6d9a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2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Sequential Process of Consumer Choi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Impact"/>
              </a:rPr>
              <a:t>Total Brand Se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Tide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Trend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Cheer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Gain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Surf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Rinso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Bold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Oxydol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Wisk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Purex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Ultra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Fab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86200" y="2044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Impact"/>
              </a:rPr>
              <a:t>Awareness Se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Tide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Cheer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Bold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Wisk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Fab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629400" y="1981080"/>
            <a:ext cx="251460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Impact"/>
              </a:rPr>
              <a:t>Consideration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Ti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Ch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Impact"/>
              </a:rPr>
              <a:t>F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Types of Decision Process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4419720" y="2362320"/>
            <a:ext cx="838080" cy="4114800"/>
          </a:xfrm>
          <a:prstGeom prst="upDownArrow">
            <a:avLst>
              <a:gd name="adj1" fmla="val 50000"/>
              <a:gd name="adj2" fmla="val 97741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447920" y="205740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755000" y="198108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9436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3880" y="2743200"/>
            <a:ext cx="236232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Extensiv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Sol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523880" y="4038480"/>
            <a:ext cx="2362320" cy="7621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Limited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Sol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600200" y="5410080"/>
            <a:ext cx="220968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Routiniz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743200" y="3581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74320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0384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4191120" y="6477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867280" y="2666880"/>
            <a:ext cx="25146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New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867280" y="4038480"/>
            <a:ext cx="2514600" cy="7621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Modified Reb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5943600" y="5334120"/>
            <a:ext cx="23623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Straight Reb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162920" y="3581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7162920" y="4800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Questions on Selective Deman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eterminant Characterist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39000" indent="-24552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hat are the benefits buyers hope to obtain from usage or ownership of the product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39000" indent="-24552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hat product attributes or characteriatics are viewed as providing these benefits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39000" indent="-24552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What is the relative importance of the various benefits desired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39000" indent="-245520">
              <a:spcBef>
                <a:spcPts val="700"/>
              </a:spcBef>
              <a:buClr>
                <a:srgbClr val="01b0ff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How much variation is perceived among the alternatives on each of the important attributes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split dir="out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2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Impact"/>
              </a:rPr>
              <a:t>Attributes of Fast Food Restaurant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26" name="Object 0"/>
          <p:cNvGraphicFramePr/>
          <p:nvPr/>
        </p:nvGraphicFramePr>
        <p:xfrm>
          <a:off x="1219320" y="2125800"/>
          <a:ext cx="6532560" cy="47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25800"/>
                    <a:ext cx="653256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4"/>
          <p:cNvSpPr/>
          <p:nvPr/>
        </p:nvSpPr>
        <p:spPr>
          <a:xfrm>
            <a:off x="1447920" y="5791320"/>
            <a:ext cx="480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 = unimpor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 = very impor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A Six-Step Approach to Understanding the Nature of Competitive Marke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efine the Relevant Mark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Analyze Primary Demand for the Relevant Mark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Analyze Selective Demand for the Relevant Mark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efine Market Segm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Assess  the Competi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Identify Potential Target Mark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Attribute Ratings for Three Restaura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95280" y="2352600"/>
            <a:ext cx="740736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RIBUTE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ood Tas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Quality and Cost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ood Selection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enu Alternatives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=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= Excel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Assessing Whether an Attribute is </a:t>
            </a: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GB" sz="3600" spc="-1" strike="noStrike">
                <a:solidFill>
                  <a:srgbClr val="ccffff"/>
                </a:solidFill>
                <a:latin typeface="Impact"/>
              </a:rPr>
              <a:t>Determina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2362320" y="3200400"/>
          <a:ext cx="678168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00400"/>
                    <a:ext cx="67816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4"/>
          <p:cNvSpPr/>
          <p:nvPr/>
        </p:nvSpPr>
        <p:spPr>
          <a:xfrm>
            <a:off x="3200400" y="3124080"/>
            <a:ext cx="5410080" cy="3276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5867280" y="31240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3200400" y="4724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808800" y="358128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rrelev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477120" y="3505320"/>
            <a:ext cx="13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tio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733920" y="5181480"/>
            <a:ext cx="180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4480" y="518148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4116960" y="2590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6400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66294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24382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4382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35268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ived Variation Among Altern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990720" y="41911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Defining the Relevant Mark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A set of products and/or services that management considers to be strategically important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For example,  a brand of herbal tea may have a large share of that market but a very small share of the total tea marke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Defining the Relevant Mark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escribe the Structure of the Relevant Mark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Classify competing product market alternatives at  three level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Lucida Casual"/>
              <a:buChar char="a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.  Competing brands within a product form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Lucida Casual"/>
              <a:buChar char="b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.  Competing product forms within a product cla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Lucida Casual"/>
              <a:buChar char="c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.  Competing product classes within a generic ne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Defining the Relevant Mark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Define the Boundaries Within the Market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Important for determining “</a:t>
            </a:r>
            <a:r>
              <a:rPr b="0" lang="en-GB" sz="2800" spc="-1" strike="noStrike">
                <a:solidFill>
                  <a:srgbClr val="001932"/>
                </a:solidFill>
                <a:latin typeface="Impact"/>
              </a:rPr>
              <a:t>Market Share</a:t>
            </a: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Market Structure for Soft Drink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4495680" y="2209680"/>
            <a:ext cx="3581640" cy="335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1523520" y="2209680"/>
            <a:ext cx="2971800" cy="335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124080" y="3809880"/>
            <a:ext cx="121932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2362320" y="4572000"/>
            <a:ext cx="2286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H="1">
            <a:off x="3200400" y="4572000"/>
            <a:ext cx="38088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5333760" y="3581280"/>
            <a:ext cx="685800" cy="198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 flipH="1">
            <a:off x="6857640" y="4572000"/>
            <a:ext cx="1522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5715000" y="45720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395320" y="24796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957040" y="2556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5530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690240" y="3699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505680" y="38098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5182200" y="3809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1889640" y="3927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819520" y="548640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838080" y="5486400"/>
            <a:ext cx="10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4800600" y="55627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6705720" y="56386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1905120" y="54864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3809880" y="5486400"/>
            <a:ext cx="105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5791320" y="55627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7870680" y="5608800"/>
            <a:ext cx="1273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890520" y="640080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Defining the Relevant Mark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523880" y="1981080"/>
            <a:ext cx="7086600" cy="1219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Describe Product Market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1c6d9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Identify potential compet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1c6d9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Classify competitors in terms of simila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447920" y="3657600"/>
            <a:ext cx="701028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Define Relevant Market Bound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00200" y="4572000"/>
            <a:ext cx="304812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Broad Relev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Market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562720" y="4572000"/>
            <a:ext cx="266688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Narrow Relev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Market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600200" y="6095880"/>
            <a:ext cx="2743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Primary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562720" y="6095880"/>
            <a:ext cx="29718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Secondary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4724280" y="32004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2819520" y="4191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781680" y="4191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28195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6781680" y="5715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ffff"/>
                </a:solidFill>
                <a:latin typeface="Impact"/>
              </a:rPr>
              <a:t>Analyzing Primary and Secondary Demand</a:t>
            </a:r>
            <a:endParaRPr b="0" lang="en-US" sz="3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905120" y="2286000"/>
            <a:ext cx="6553080" cy="838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6d9a"/>
                </a:solidFill>
                <a:latin typeface="Times New Roman"/>
              </a:rPr>
              <a:t>Define Relevant Market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05120" y="3581280"/>
            <a:ext cx="3200400" cy="327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Primary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1c6d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Identity of buyer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product form/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1c6d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Factors impa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willingness and 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to buy the produ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form/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410080" y="3581280"/>
            <a:ext cx="3048120" cy="2438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Selective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1c6d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Type of 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decis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1c6d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Identific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c6d9a"/>
                </a:solidFill>
                <a:latin typeface="Times New Roman"/>
              </a:rPr>
              <a:t>determinant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5257800" y="3276720"/>
            <a:ext cx="152388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 flipH="1">
            <a:off x="3352680" y="3276720"/>
            <a:ext cx="190512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6781680" y="3276720"/>
            <a:ext cx="0" cy="30456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Impact"/>
              </a:rPr>
              <a:t>Questions on Buyer Identifica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Impact"/>
              </a:rPr>
              <a:t>Characteristics of Buyers or User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Can buyers of this product category be classified by location, demographics, or lifestyle and psychographic factors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Impact"/>
              </a:rPr>
              <a:t>If so, how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med" advTm="12000"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  <p:animClr clrSpc="rgb">
                                <p:cBhvr>
                                  <p:cTn id="124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1T13:59:08Z</dcterms:created>
  <dc:creator/>
  <dc:description/>
  <dc:language>en-US</dc:language>
  <cp:lastModifiedBy>Bright</cp:lastModifiedBy>
  <dcterms:modified xsi:type="dcterms:W3CDTF">2013-08-23T06:49:33Z</dcterms:modified>
  <cp:revision>12</cp:revision>
  <dc:subject/>
  <dc:title>Market Analysis</dc:title>
</cp:coreProperties>
</file>